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9921875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63A-3B55-43B4-A8D8-D0CFA1A5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7F2-4F22-4EDD-9A37-43CA3CCA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1CC-6A55-46D1-8E83-1C4CDDD4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757-675A-4401-8732-013E8478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AB1-A4D2-4C41-9B43-D2733864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F8D-5C01-4F2A-981F-9E36EA84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6E8-99EF-4662-887B-A55451CD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628-90B6-4ECC-BA42-460D4477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010-BBBF-4A7F-8D34-4E0966B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651-A281-4D70-A886-C33CB161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CA7-D5EA-47E1-8472-F290E2D2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24F-886B-43F5-948A-90518E9D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8A20-4F86-47E4-A6F9-A5F8172BCF4E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zop.hr/" TargetMode="External"/><Relationship Id="rId2" Type="http://schemas.openxmlformats.org/officeDocument/2006/relationships/hyperlink" Target="http://www.mzop.hr/" TargetMode="External"/><Relationship Id="rId3" Type="http://schemas.openxmlformats.org/officeDocument/2006/relationships/hyperlink" Target="http://www.mzop.hr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6280" y="324000"/>
            <a:ext cx="5977080" cy="849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360" y="539280"/>
            <a:ext cx="58291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SAČKO-MOSLAVAČKA ŽUPANIJA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RAVNI ODJEL ZA ZAŠTITU OKOLIŠA I PRIR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28520" y="7093080"/>
            <a:ext cx="4800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ZVJEŠĆE O KAKVOĆI Z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 SISAČKO-MOSLAVAČKOJ ŽUPANIJI U 2007. GOD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vanj, 2008. g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83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394920"/>
            <a:ext cx="6172200" cy="82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zvješće o kakvoći zraka u Sisačko-moslavačkoj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upaniji u 2007. godini je izrad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pravni odjel za zaštitu okoliša i prir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isačko-moslavačke župan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1600" spc="-1" strike="noStrike" u="sng">
                <a:solidFill>
                  <a:srgbClr val="000000"/>
                </a:solidFill>
                <a:uFillTx/>
                <a:latin typeface="Arial"/>
              </a:rPr>
              <a:t>Izvješće je izrađeno na temelj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zmjerenih podataka s automatskih mjernih postaj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isak i Kutina (web stranice: </a:t>
            </a:r>
            <a:r>
              <a:rPr b="0" lang="hr-H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hr-H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zop</a:t>
            </a:r>
            <a:r>
              <a:rPr b="0" lang="hr-HR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h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zmjerenih podataka i dostavljenog izvješća Zavo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za javno zdravstvo Sisačko-moslavačke župani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zvješća o kakvoći zraka Grada Kutine za 200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g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2:10:09Z</dcterms:created>
  <dc:creator>Rajic</dc:creator>
  <dc:description/>
  <dc:language>en-US</dc:language>
  <cp:lastModifiedBy>Rajic</cp:lastModifiedBy>
  <dcterms:modified xsi:type="dcterms:W3CDTF">2008-05-05T06:12:19Z</dcterms:modified>
  <cp:revision>10</cp:revision>
  <dc:subject/>
  <dc:title>SISAČKO-MOSLAVAČKA ŽUPANIJA  UPRAVNI ODJEL ZA ZAŠTITU OKOLIŠA I PRIRODE</dc:title>
</cp:coreProperties>
</file>